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D33-38B6-4AC5-A305-E7D33F8E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861-A71F-4B9B-A8ED-D52BA722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248-C865-462F-86F4-4DC7752F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B03-2F43-464A-81A0-A476E4EB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2A8-9EC4-4F43-AB35-776F9ED4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196-909A-4632-9CC3-F3EE0D86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1ED-0C68-4002-9928-0E10B7A3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1FB-995F-4C05-8B6A-B5BD0673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F34-7DD5-4DB8-82DF-141A4066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B3C-D20F-43C2-8471-51B2F611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C05-B7C8-46FB-AD6F-F1951B83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35A-8CA6-49FC-820F-01B96924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3D42-F0FF-477B-9691-886C0DC1E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2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glory and p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5:51Z</dcterms:created>
  <dc:creator>Anon Anon</dc:creator>
  <dc:description/>
  <dc:language>en-US</dc:language>
  <cp:lastModifiedBy>Anon Anon</cp:lastModifiedBy>
  <dcterms:modified xsi:type="dcterms:W3CDTF">2005-08-09T05:24:45Z</dcterms:modified>
  <cp:revision>11</cp:revision>
  <dc:subject/>
  <dc:title>PowerPoint Presentation</dc:title>
</cp:coreProperties>
</file>